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92913" cy="99218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42437-A430-4E86-9063-EAE69884F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E45CC-0C8C-4F0F-A103-83DB989EC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BC053-E770-4275-B9F0-F75C3C525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4738A-E30D-40E7-B2B4-1B189A302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AEE59-ADF3-4715-8BB7-B1C4D9884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307B9-81AD-464B-B251-EFD83303C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01C6E-AAF6-4851-A9C2-F8F2C93C1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63722-D341-40CB-9139-37B67936B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0E5FE-47D2-495B-AEB1-7ED9AFF58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CC374-3D9D-4CD3-89DB-475D0FBE1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A9FDF-B179-4140-917B-B97CA87E1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29B4F-0B75-4810-8063-A36380414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8C3CE-7EAF-4204-9229-5C75772BA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241D7-8B7E-4ABF-B8E2-A0DB88B38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0DF69-C8CB-4971-A341-BCB2E0AAB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05855-1814-4BE4-BD32-6BE579817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C13B9-3DA9-4A65-B4F4-D1CC69A6E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EECE0-10B9-49AC-86E0-EA7E8074E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55631-E39D-4F7E-8B9D-C4E7095D6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417FD-E013-4B5E-A9A8-F962DC8C9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7FFD8-D6C4-48A1-AEFF-B6A65F71A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E8A32-B580-4A5B-9579-EDF1C508D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13372-11E5-41F2-A3A6-8E6FAA7A7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26FD8-62E6-4C21-A49E-95468D46A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2682720"/>
                <a:gd name="textAreaBottom" fmla="*/ 2683080 h 2682720"/>
              </a:gdLst>
              <a:ahLst/>
              <a:rect l="textAreaLeft" t="textAreaTop" r="textAreaRight" b="textAreaBottom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>
                <a:gd name="textAreaLeft" fmla="*/ 0 w 600120"/>
                <a:gd name="textAreaRight" fmla="*/ 600120 w 600120"/>
                <a:gd name="textAreaTop" fmla="*/ 0 h 828720"/>
                <a:gd name="textAreaBottom" fmla="*/ 829080 h 828720"/>
              </a:gdLst>
              <a:ahLst/>
              <a:rect l="textAreaLeft" t="textAreaTop" r="textAreaRight" b="textAreaBottom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>
                  <a:gd name="textAreaLeft" fmla="*/ 0 w 276120"/>
                  <a:gd name="textAreaRight" fmla="*/ 276480 w 276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>
                  <a:gd name="textAreaLeft" fmla="*/ 0 w 534960"/>
                  <a:gd name="textAreaRight" fmla="*/ 535320 w 534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>
                  <a:gd name="textAreaLeft" fmla="*/ 0 w 677880"/>
                  <a:gd name="textAreaRight" fmla="*/ 677880 w 6778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>
                  <a:gd name="textAreaLeft" fmla="*/ 0 w 885600"/>
                  <a:gd name="textAreaRight" fmla="*/ 885960 w 885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>
                  <a:gd name="textAreaLeft" fmla="*/ 0 w 1095120"/>
                  <a:gd name="textAreaRight" fmla="*/ 1095480 w 1095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>
                  <a:gd name="textAreaLeft" fmla="*/ 0 w 1371600"/>
                  <a:gd name="textAreaRight" fmla="*/ 1371960 w 1371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>
                  <a:gd name="textAreaLeft" fmla="*/ 0 w 237960"/>
                  <a:gd name="textAreaRight" fmla="*/ 237960 w 237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>
                  <a:gd name="textAreaLeft" fmla="*/ 0 w 476280"/>
                  <a:gd name="textAreaRight" fmla="*/ 476640 w 4762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>
                  <a:gd name="textAreaLeft" fmla="*/ 0 w 674640"/>
                  <a:gd name="textAreaRight" fmla="*/ 675000 w 6746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>
                  <a:gd name="textAreaLeft" fmla="*/ 0 w 912960"/>
                  <a:gd name="textAreaRight" fmla="*/ 913320 w 912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>
                  <a:gd name="textAreaLeft" fmla="*/ 0 w 1170000"/>
                  <a:gd name="textAreaRight" fmla="*/ 1170360 w 11700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>
                  <a:gd name="textAreaLeft" fmla="*/ 0 w 1333440"/>
                  <a:gd name="textAreaRight" fmla="*/ 1333800 w 13334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>
                <a:gd name="textAreaLeft" fmla="*/ 0 w 962280"/>
                <a:gd name="textAreaRight" fmla="*/ 962640 w 962280"/>
                <a:gd name="textAreaTop" fmla="*/ 0 h 2246040"/>
                <a:gd name="textAreaBottom" fmla="*/ 2246400 h 2246040"/>
              </a:gdLst>
              <a:ahLst/>
              <a:rect l="textAreaLeft" t="textAreaTop" r="textAreaRight" b="textAreaBottom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>
                <a:gd name="textAreaLeft" fmla="*/ 0 w 362160"/>
                <a:gd name="textAreaRight" fmla="*/ 362520 w 362160"/>
                <a:gd name="textAreaTop" fmla="*/ 0 h 676080"/>
                <a:gd name="textAreaBottom" fmla="*/ 676440 h 676080"/>
              </a:gdLst>
              <a:ahLst/>
              <a:rect l="textAreaLeft" t="textAreaTop" r="textAreaRight" b="textAreaBottom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>
                <a:gd name="textAreaLeft" fmla="*/ 0 w 1562040"/>
                <a:gd name="textAreaRight" fmla="*/ 1562400 w 1562040"/>
                <a:gd name="textAreaTop" fmla="*/ 0 h 2835360"/>
                <a:gd name="textAreaBottom" fmla="*/ 2835360 h 2835360"/>
              </a:gdLst>
              <a:ahLst/>
              <a:rect l="textAreaLeft" t="textAreaTop" r="textAreaRight" b="textAreaBottom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1341360"/>
                <a:gd name="textAreaBottom" fmla="*/ 1341360 h 1341360"/>
              </a:gdLst>
              <a:ahLst/>
              <a:rect l="textAreaLeft" t="textAreaTop" r="textAreaRight" b="textAreaBottom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>
                <a:gd name="textAreaLeft" fmla="*/ 0 w 647640"/>
                <a:gd name="textAreaRight" fmla="*/ 648000 w 647640"/>
                <a:gd name="textAreaTop" fmla="*/ 0 h 657360"/>
                <a:gd name="textAreaBottom" fmla="*/ 657360 h 657360"/>
              </a:gdLst>
              <a:ahLst/>
              <a:rect l="textAreaLeft" t="textAreaTop" r="textAreaRight" b="textAreaBottom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>
                <a:gd name="textAreaLeft" fmla="*/ 0 w 1362240"/>
                <a:gd name="textAreaRight" fmla="*/ 1362240 w 136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>
                <a:gd name="textAreaLeft" fmla="*/ 0 w 933480"/>
                <a:gd name="textAreaRight" fmla="*/ 933840 w 933480"/>
                <a:gd name="textAreaTop" fmla="*/ 0 h 950760"/>
                <a:gd name="textAreaBottom" fmla="*/ 951120 h 950760"/>
              </a:gdLst>
              <a:ahLst/>
              <a:rect l="textAreaLeft" t="textAreaTop" r="textAreaRight" b="textAreaBottom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>
                <a:gd name="textAreaLeft" fmla="*/ 0 w 428760"/>
                <a:gd name="textAreaRight" fmla="*/ 429120 w 42876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60706-1A83-4BD7-BD13-1010ACFC0A86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>
                <a:gd name="textAreaLeft" fmla="*/ 0 w 1141200"/>
                <a:gd name="textAreaRight" fmla="*/ 1141560 w 1141200"/>
                <a:gd name="textAreaTop" fmla="*/ 0 h 2682720"/>
                <a:gd name="textAreaBottom" fmla="*/ 2683080 h 2682720"/>
              </a:gdLst>
              <a:ahLst/>
              <a:rect l="textAreaLeft" t="textAreaTop" r="textAreaRight" b="textAreaBottom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>
                <a:gd name="textAreaLeft" fmla="*/ 0 w 599760"/>
                <a:gd name="textAreaRight" fmla="*/ 600120 w 599760"/>
                <a:gd name="textAreaTop" fmla="*/ 0 h 828720"/>
                <a:gd name="textAreaBottom" fmla="*/ 829080 h 828720"/>
              </a:gdLst>
              <a:ahLst/>
              <a:rect l="textAreaLeft" t="textAreaTop" r="textAreaRight" b="textAreaBottom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>
                  <a:gd name="textAreaLeft" fmla="*/ 0 w 113760"/>
                  <a:gd name="textAreaRight" fmla="*/ 114120 w 113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>
                  <a:gd name="textAreaLeft" fmla="*/ 0 w 275760"/>
                  <a:gd name="textAreaRight" fmla="*/ 276120 w 275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>
                  <a:gd name="textAreaLeft" fmla="*/ 0 w 534600"/>
                  <a:gd name="textAreaRight" fmla="*/ 534960 w 534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>
                  <a:gd name="textAreaLeft" fmla="*/ 0 w 677520"/>
                  <a:gd name="textAreaRight" fmla="*/ 677880 w 6775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>
                  <a:gd name="textAreaLeft" fmla="*/ 0 w 885240"/>
                  <a:gd name="textAreaRight" fmla="*/ 885600 w 8852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>
                  <a:gd name="textAreaLeft" fmla="*/ 0 w 1094760"/>
                  <a:gd name="textAreaRight" fmla="*/ 1095120 w 1094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>
                  <a:gd name="textAreaLeft" fmla="*/ 0 w 1371240"/>
                  <a:gd name="textAreaRight" fmla="*/ 1371240 w 13712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>
                  <a:gd name="textAreaLeft" fmla="*/ 0 w 237600"/>
                  <a:gd name="textAreaRight" fmla="*/ 237960 w 237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>
                  <a:gd name="textAreaLeft" fmla="*/ 0 w 475920"/>
                  <a:gd name="textAreaRight" fmla="*/ 476280 w 4759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>
                  <a:gd name="textAreaLeft" fmla="*/ 0 w 674280"/>
                  <a:gd name="textAreaRight" fmla="*/ 674640 w 6742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>
                  <a:gd name="textAreaLeft" fmla="*/ 0 w 912600"/>
                  <a:gd name="textAreaRight" fmla="*/ 912960 w 912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>
                  <a:gd name="textAreaLeft" fmla="*/ 0 w 1169640"/>
                  <a:gd name="textAreaRight" fmla="*/ 1170000 w 11696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>
                  <a:gd name="textAreaLeft" fmla="*/ 0 w 1333080"/>
                  <a:gd name="textAreaRight" fmla="*/ 1333440 w 13330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>
                <a:gd name="textAreaLeft" fmla="*/ 0 w 961920"/>
                <a:gd name="textAreaRight" fmla="*/ 962280 w 961920"/>
                <a:gd name="textAreaTop" fmla="*/ 0 h 2246040"/>
                <a:gd name="textAreaBottom" fmla="*/ 2246400 h 2246040"/>
              </a:gdLst>
              <a:ahLst/>
              <a:rect l="textAreaLeft" t="textAreaTop" r="textAreaRight" b="textAreaBottom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>
                <a:gd name="textAreaLeft" fmla="*/ 0 w 361800"/>
                <a:gd name="textAreaRight" fmla="*/ 362160 w 361800"/>
                <a:gd name="textAreaTop" fmla="*/ 0 h 676080"/>
                <a:gd name="textAreaBottom" fmla="*/ 676440 h 676080"/>
              </a:gdLst>
              <a:ahLst/>
              <a:rect l="textAreaLeft" t="textAreaTop" r="textAreaRight" b="textAreaBottom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>
                <a:gd name="textAreaLeft" fmla="*/ 0 w 1561680"/>
                <a:gd name="textAreaRight" fmla="*/ 1562040 w 1561680"/>
                <a:gd name="textAreaTop" fmla="*/ 0 h 2835360"/>
                <a:gd name="textAreaBottom" fmla="*/ 2835360 h 2835360"/>
              </a:gdLst>
              <a:ahLst/>
              <a:rect l="textAreaLeft" t="textAreaTop" r="textAreaRight" b="textAreaBottom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>
                <a:gd name="textAreaLeft" fmla="*/ 0 w 1141200"/>
                <a:gd name="textAreaRight" fmla="*/ 1141560 w 1141200"/>
                <a:gd name="textAreaTop" fmla="*/ 0 h 1341360"/>
                <a:gd name="textAreaBottom" fmla="*/ 1341360 h 1341360"/>
              </a:gdLst>
              <a:ahLst/>
              <a:rect l="textAreaLeft" t="textAreaTop" r="textAreaRight" b="textAreaBottom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>
                <a:gd name="textAreaLeft" fmla="*/ 0 w 647280"/>
                <a:gd name="textAreaRight" fmla="*/ 647640 w 647280"/>
                <a:gd name="textAreaTop" fmla="*/ 0 h 657360"/>
                <a:gd name="textAreaBottom" fmla="*/ 657360 h 657360"/>
              </a:gdLst>
              <a:ahLst/>
              <a:rect l="textAreaLeft" t="textAreaTop" r="textAreaRight" b="textAreaBottom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>
                <a:gd name="textAreaLeft" fmla="*/ 0 w 1361880"/>
                <a:gd name="textAreaRight" fmla="*/ 1362240 w 136188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>
                <a:gd name="textAreaLeft" fmla="*/ 0 w 933120"/>
                <a:gd name="textAreaRight" fmla="*/ 933480 w 933120"/>
                <a:gd name="textAreaTop" fmla="*/ 0 h 950760"/>
                <a:gd name="textAreaBottom" fmla="*/ 951120 h 950760"/>
              </a:gdLst>
              <a:ahLst/>
              <a:rect l="textAreaLeft" t="textAreaTop" r="textAreaRight" b="textAreaBottom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>
                <a:gd name="textAreaLeft" fmla="*/ 0 w 428400"/>
                <a:gd name="textAreaRight" fmla="*/ 428760 w 42840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C8108-BC10-47A7-8BE6-89E5F94E7B3D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-360" y="0"/>
            <a:ext cx="864396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Прямоугольник 3"/>
          <p:cNvSpPr/>
          <p:nvPr/>
        </p:nvSpPr>
        <p:spPr>
          <a:xfrm>
            <a:off x="0" y="620640"/>
            <a:ext cx="9144000" cy="86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1d8ff"/>
                </a:solidFill>
                <a:latin typeface="Verdana"/>
              </a:rPr>
              <a:t>КОЧЕТОВ Эрнест Георгиевич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Гуманитарная наука в поисках мировых новаций: космологизация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как новый этап мирового развития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Гуманитарный прорыв в глобальной методологии миропонимания («фазовые переходы» и их методологическое и теоретическое осмысление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Выступление на круглом столе «Влияние мирового финансового кризиса на инновационные процессы в зарубежных странах и России»,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МГУ им. М.В. Ломоносова, 18 апреля  2013 г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9200"/>
          </a:xfrm>
          <a:prstGeom prst="rect">
            <a:avLst/>
          </a:prstGeom>
          <a:noFill/>
          <a:ln w="0">
            <a:noFill/>
          </a:ln>
        </p:spPr>
        <p:txBody>
          <a:bodyPr tIns="33480" bIns="334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9" name="TextBox 5"/>
          <p:cNvSpPr/>
          <p:nvPr/>
        </p:nvSpPr>
        <p:spPr>
          <a:xfrm>
            <a:off x="7750440" y="60213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 rot="10800000">
            <a:off x="395280" y="571320"/>
            <a:ext cx="7416720" cy="48960"/>
          </a:xfrm>
          <a:prstGeom prst="rect">
            <a:avLst/>
          </a:prstGeom>
          <a:noFill/>
          <a:ln w="0">
            <a:noFill/>
          </a:ln>
        </p:spPr>
        <p:txBody>
          <a:bodyPr tIns="3240" bIns="324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ecff"/>
                </a:solidFill>
                <a:latin typeface="Arial Black"/>
              </a:rPr>
              <a:t> </a:t>
            </a:r>
            <a:endParaRPr b="0" lang="en-US" sz="1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42560" y="142560"/>
            <a:ext cx="9001080" cy="59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 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Как показано на блок-схеме, мир развивается поэтапно. Каждая этап (фаза), выполнив свою миссию, как эстафету передает процесс развития следующему этапу, проходя при этом через «фазовые переходы». Фаза (этап) выступает в двух ипостасях, т.е.  обладает дуальностью (двойственностью):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1) как процесс;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2) как наука, освещающая этот процесс и обеспечивающая его понимание (постижение, осознания, теоретическое и методологическое отображение и т.д.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 rot="10800000">
            <a:off x="395280" y="571320"/>
            <a:ext cx="7416720" cy="48960"/>
          </a:xfrm>
          <a:prstGeom prst="rect">
            <a:avLst/>
          </a:prstGeom>
          <a:noFill/>
          <a:ln w="0">
            <a:noFill/>
          </a:ln>
        </p:spPr>
        <p:txBody>
          <a:bodyPr tIns="3240" bIns="324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ecff"/>
                </a:solidFill>
                <a:latin typeface="Arial Black"/>
              </a:rPr>
              <a:t> </a:t>
            </a:r>
            <a:endParaRPr b="0" lang="en-US" sz="1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42560" y="142560"/>
            <a:ext cx="9001080" cy="59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 </a:t>
            </a:r>
            <a:r>
              <a:rPr b="0" lang="ru-RU" sz="2500" spc="-1" strike="noStrike">
                <a:solidFill>
                  <a:srgbClr val="ffffff"/>
                </a:solidFill>
                <a:latin typeface="Verdana"/>
              </a:rPr>
              <a:t>Здесь последовательно и вместе работают: 1) фундаментальная онтологическая связка-триада «геоэкономика → глобализация → космологизация»; 2) фундаментальная гносеологическая связка-триада: «геоэкономический подход → глобалистика → гуманитарная космология». Связи вне и внутри триад придают им кластерный характер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Verdana"/>
              </a:rPr>
              <a:t>Фазы (этапы) и фазовые переходы освящаются методологическим аппаратом – геогенезисом (объемно-пространственным методом восприятия мира) и геологистикой. Оформление этих процессов идет через диалог и  диалогистику (коммуникативный способ осознания и постижения мира) -  они дают ключ к миропониманию 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 rot="10800000">
            <a:off x="395280" y="571320"/>
            <a:ext cx="7416720" cy="48960"/>
          </a:xfrm>
          <a:prstGeom prst="rect">
            <a:avLst/>
          </a:prstGeom>
          <a:noFill/>
          <a:ln w="0">
            <a:noFill/>
          </a:ln>
        </p:spPr>
        <p:txBody>
          <a:bodyPr tIns="3240" bIns="324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ecff"/>
                </a:solidFill>
                <a:latin typeface="Arial Black"/>
              </a:rPr>
              <a:t> </a:t>
            </a:r>
            <a:endParaRPr b="0" lang="en-US" sz="1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142560" y="142560"/>
            <a:ext cx="9001080" cy="59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 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рыв научного знания в гуманитарную космологию, освещающую зарождение переход от глобализации в новую фазу мирового развития – космологизацию, опирается на мощный методологический инструментарий: геогенезис, диалогистику, геологистику мировых процессов. Дадим определения этим базовым категориям (понятиям), раскрывающим смысл мировых трансформаций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 rot="10800000">
            <a:off x="395280" y="571320"/>
            <a:ext cx="7416720" cy="48960"/>
          </a:xfrm>
          <a:prstGeom prst="rect">
            <a:avLst/>
          </a:prstGeom>
          <a:noFill/>
          <a:ln w="0">
            <a:noFill/>
          </a:ln>
        </p:spPr>
        <p:txBody>
          <a:bodyPr tIns="3240" bIns="324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ecff"/>
                </a:solidFill>
                <a:latin typeface="Arial Black"/>
              </a:rPr>
              <a:t> </a:t>
            </a:r>
            <a:endParaRPr b="0" lang="en-US" sz="1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85840" y="285840"/>
            <a:ext cx="8400960" cy="584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Геогенезис </a:t>
            </a: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Geogenesis</a:t>
            </a: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) – пространственно-философская методология осознания (постижения), восприятия и отображения мира, методологическая основа глобалистики; синтез подпространственных форм, выделенных по функциональному признаку, в единое целостное пространство; новая методологическая призма, через которую рассматривается процесс глобализации. Геогенезис выступает как новая методологическая основа, новейшая «оптика» понимания современной архитектоники мира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 rot="10800000">
            <a:off x="395280" y="571320"/>
            <a:ext cx="7416720" cy="48960"/>
          </a:xfrm>
          <a:prstGeom prst="rect">
            <a:avLst/>
          </a:prstGeom>
          <a:noFill/>
          <a:ln w="0">
            <a:noFill/>
          </a:ln>
        </p:spPr>
        <p:txBody>
          <a:bodyPr tIns="3240" bIns="324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ecff"/>
                </a:solidFill>
                <a:latin typeface="Arial Black"/>
              </a:rPr>
              <a:t> </a:t>
            </a:r>
            <a:endParaRPr b="0" lang="en-US" sz="1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85840" y="285840"/>
            <a:ext cx="8400960" cy="584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Космологизация 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(Cosmologization) – 1) процесс, отражающий новейшую фазу магистрального пути мирового развития как синтез человека, общепланетарных  и космических процессов (союз «Человека, Земли и Неба»);  2) выход на мировую арену «новых  людей», обладающих космологическим сознанием, творцов Мироздания, их органичное  слияние с ним;  3) процесс создания и предъявление миру нового чертежа (эскиза)  антропокосмоса и высокая гуманитарная технология возведения  на его основе нового Мироздания – Мироздания нового Ренессанса; 4) Выход Человека  на новые масштабы и горизонты макро - и микромира как залог его качественно нового бытия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5880"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Verdana"/>
            </a:endParaRPr>
          </a:p>
          <a:p>
            <a:pPr marL="335880" indent="0" algn="ctr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5880" indent="0" algn="ctr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5880" indent="0" algn="ctr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5880" indent="0" algn="ctr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5880" indent="0" algn="ctr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5880" indent="0" algn="ctr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 rot="10800000">
            <a:off x="395280" y="571320"/>
            <a:ext cx="7416720" cy="48960"/>
          </a:xfrm>
          <a:prstGeom prst="rect">
            <a:avLst/>
          </a:prstGeom>
          <a:noFill/>
          <a:ln w="0">
            <a:noFill/>
          </a:ln>
        </p:spPr>
        <p:txBody>
          <a:bodyPr tIns="3240" bIns="324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ecff"/>
                </a:solidFill>
                <a:latin typeface="Arial Black"/>
              </a:rPr>
              <a:t> </a:t>
            </a:r>
            <a:endParaRPr b="0" lang="en-US" sz="1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285840" y="0"/>
            <a:ext cx="8400960" cy="613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 </a:t>
            </a:r>
            <a:r>
              <a:rPr b="1" lang="ru-RU" sz="2300" spc="-1" strike="noStrike">
                <a:solidFill>
                  <a:srgbClr val="ffffff"/>
                </a:solidFill>
                <a:latin typeface="Verdana"/>
              </a:rPr>
              <a:t>Гуманитарная космология</a:t>
            </a:r>
            <a:r>
              <a:rPr b="0" lang="ru-RU" sz="2300" spc="-1" strike="noStrike">
                <a:solidFill>
                  <a:srgbClr val="ffffff"/>
                </a:solidFill>
                <a:latin typeface="Verdana"/>
              </a:rPr>
              <a:t> (</a:t>
            </a:r>
            <a:r>
              <a:rPr b="0" lang="en-US" sz="2300" spc="-1" strike="noStrike">
                <a:solidFill>
                  <a:srgbClr val="ffffff"/>
                </a:solidFill>
                <a:latin typeface="Verdana"/>
              </a:rPr>
              <a:t>Humanitarian Cosmology</a:t>
            </a:r>
            <a:r>
              <a:rPr b="0" lang="ru-RU" sz="2300" spc="-1" strike="noStrike">
                <a:solidFill>
                  <a:srgbClr val="ffffff"/>
                </a:solidFill>
                <a:latin typeface="Verdana"/>
              </a:rPr>
              <a:t>) — отрасль гуманитарного знания, наука о: 1)  ценности человека и жизни, новых ее общественных формах организации; 2) нераздельном парадигмальном миропонимании внутреннего и внешнего мира человека и способах его отображения; 3) выходе на такие уровни (горизонты) миросозерцания, на которых стирается грань между естественным и гуманитарным знанием; 4) выходе гуманитарных геопространств (геоэкономики, геостратегии, геокультуры, геоинформатики и др.) за глобальные рамки и технологии оперирования как их синтезе в этом новом (космологическом) пространственном измерении; 5) осознании вопросов тысячелетнего ранга и поиске ответов на них; 6) фундаментальных основах доктрины человека как гуманитарного манифеста; дороге к новому Мирозданию Новых людей.</a:t>
            </a:r>
            <a:endParaRPr b="0" lang="en-US" sz="2300" spc="-1" strike="noStrike">
              <a:solidFill>
                <a:srgbClr val="ffffff"/>
              </a:solidFill>
              <a:latin typeface="Verdana"/>
            </a:endParaRPr>
          </a:p>
          <a:p>
            <a:pPr marL="332640"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Verdana"/>
            </a:endParaRPr>
          </a:p>
          <a:p>
            <a:pPr marL="332640" indent="0" algn="ctr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2640" indent="0" algn="ctr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2640" indent="0" algn="ctr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2640" indent="0" algn="ctr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2640" indent="0" algn="ctr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2640" indent="0" algn="ctr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 rot="10800000">
            <a:off x="395280" y="571320"/>
            <a:ext cx="7416720" cy="48960"/>
          </a:xfrm>
          <a:prstGeom prst="rect">
            <a:avLst/>
          </a:prstGeom>
          <a:noFill/>
          <a:ln w="0">
            <a:noFill/>
          </a:ln>
        </p:spPr>
        <p:txBody>
          <a:bodyPr tIns="3240" bIns="324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ecff"/>
                </a:solidFill>
                <a:latin typeface="Arial Black"/>
              </a:rPr>
              <a:t> </a:t>
            </a:r>
            <a:endParaRPr b="0" lang="en-US" sz="1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85840" y="285840"/>
            <a:ext cx="8400960" cy="584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 </a:t>
            </a:r>
            <a:r>
              <a:rPr b="1" lang="ru-RU" sz="2300" spc="-1" strike="noStrike">
                <a:solidFill>
                  <a:srgbClr val="ffffff"/>
                </a:solidFill>
                <a:latin typeface="Verdana"/>
              </a:rPr>
              <a:t>Диалогистика </a:t>
            </a:r>
            <a:r>
              <a:rPr b="0" lang="ru-RU" sz="2300" spc="-1" strike="noStrike">
                <a:solidFill>
                  <a:srgbClr val="ffffff"/>
                </a:solidFill>
                <a:latin typeface="Verdana"/>
              </a:rPr>
              <a:t>(Dialogistics)</a:t>
            </a:r>
            <a:r>
              <a:rPr b="1" lang="ru-RU" sz="2300" spc="-1" strike="noStrike">
                <a:solidFill>
                  <a:srgbClr val="ffffff"/>
                </a:solidFill>
                <a:latin typeface="Verdana"/>
              </a:rPr>
              <a:t> — </a:t>
            </a:r>
            <a:r>
              <a:rPr b="0" lang="ru-RU" sz="2300" spc="-1" strike="noStrike">
                <a:solidFill>
                  <a:srgbClr val="ffffff"/>
                </a:solidFill>
                <a:latin typeface="Verdana"/>
              </a:rPr>
              <a:t>новая отрасль гуманитарного знания, наука о базовых теоретических и методологических основах взаимного и согласованного миропонимания в условиях глобальных трансформаций; о поиске проблемных вопросов высокого ранга и провозглашении новых повесток дня; о выходе на новые уровни  межцивилизационного диалога как фундаментального начала гармонизации нашего мира; о высоких гуманитарных технологиях снятия напряженности и придания глобальной цивилизационной устойчивости; о теоретических основах мониторинга цивилизационной устойчивости и новым принципам принятия решений по глобальным проблемам современности; о поиске новых мотиваций, стимулов и смыслов бытия, новых моделей и горизонтов ренессансных преобразований</a:t>
            </a:r>
            <a:endParaRPr b="0" lang="en-US" sz="2300" spc="-1" strike="noStrike">
              <a:solidFill>
                <a:srgbClr val="ffffff"/>
              </a:solidFill>
              <a:latin typeface="Verdana"/>
            </a:endParaRPr>
          </a:p>
          <a:p>
            <a:pPr marL="329040" indent="0" algn="ctr">
              <a:lnSpc>
                <a:spcPct val="6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Verdana"/>
            </a:endParaRPr>
          </a:p>
          <a:p>
            <a:pPr marL="329040" indent="0" algn="ctr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29040" indent="0" algn="ctr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29040" indent="0" algn="ctr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 rot="10800000">
            <a:off x="395280" y="571320"/>
            <a:ext cx="7416720" cy="48960"/>
          </a:xfrm>
          <a:prstGeom prst="rect">
            <a:avLst/>
          </a:prstGeom>
          <a:noFill/>
          <a:ln w="0">
            <a:noFill/>
          </a:ln>
        </p:spPr>
        <p:txBody>
          <a:bodyPr tIns="3240" bIns="324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ecff"/>
                </a:solidFill>
                <a:latin typeface="Arial Black"/>
              </a:rPr>
              <a:t> </a:t>
            </a:r>
            <a:endParaRPr b="0" lang="en-US" sz="1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85840" y="285840"/>
            <a:ext cx="8400960" cy="584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 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Геологистика</a:t>
            </a: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 (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Geologistics</a:t>
            </a: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) – логистика в ее глобальном измерении, при котором частные логистические системы в глобальных координатах соотносятся как геоэкономическая, геофинансовая, геополитическая, военно-стратегическая, геоинформационная логистики, а также мировая природоохранная и мировая культурологическая логистические системы; восприятие глобального мира как логистической системы, в основе которой функциональное (не механическое) переплетение всех вышеотмеченных частных сфер в единую логистическую композицию, предопределяющую единство содержания (логику мирового развития, его центральную парадигму – геоэкономику) и формы (институциональное оформление глобального мира). Восприятие глобального мира как логистической системы (геологистики) выводит нас на построение объемной синкретической модели – геоэкономического атласа мира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 rot="10800000">
            <a:off x="395280" y="571320"/>
            <a:ext cx="7416720" cy="48960"/>
          </a:xfrm>
          <a:prstGeom prst="rect">
            <a:avLst/>
          </a:prstGeom>
          <a:noFill/>
          <a:ln w="0">
            <a:noFill/>
          </a:ln>
        </p:spPr>
        <p:txBody>
          <a:bodyPr tIns="3240" bIns="324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ecff"/>
                </a:solidFill>
                <a:latin typeface="Arial Black"/>
              </a:rPr>
              <a:t> </a:t>
            </a:r>
            <a:endParaRPr b="0" lang="en-US" sz="1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85840" y="285840"/>
            <a:ext cx="885816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Далее сконцентрируем внимание на важнейшем атрибуте фазовых переходов – диалоге и диалогистике – ключевых инструментах для миропонимания и  важнейших новых сферах гуманитарного знания– </a:t>
            </a:r>
            <a:r>
              <a:rPr b="0" i="1" lang="ru-RU" sz="2400" spc="-1" strike="noStrike">
                <a:solidFill>
                  <a:srgbClr val="ffffff"/>
                </a:solidFill>
                <a:latin typeface="Verdana"/>
              </a:rPr>
              <a:t>диалог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и </a:t>
            </a:r>
            <a:r>
              <a:rPr b="0" i="1" lang="ru-RU" sz="2400" spc="-1" strike="noStrike">
                <a:solidFill>
                  <a:srgbClr val="ffffff"/>
                </a:solidFill>
                <a:latin typeface="Verdana"/>
              </a:rPr>
              <a:t>диалогистика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Диалог - способ, адекватный коммуникативному взаимодействию  народов, цивилизаций, мировой системы, мирового сообщества и их институтов с Человеком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Диалогистика дает научное обоснование и закрепление новой когнитивной модели справедливого устроения миропорядка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Базовые постановки проблемы  диалога и диалогистики,  их операционная методологическая нагрузка,  вычленение основных блоков и их содержательное наполнение и т.д. широко представлены автором в книге «Диалог»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2220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Verdana"/>
            </a:endParaRPr>
          </a:p>
          <a:p>
            <a:pPr marL="322200"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Verdana"/>
            </a:endParaRPr>
          </a:p>
          <a:p>
            <a:pPr marL="322200" indent="0" algn="ctr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22200" indent="0" algn="ctr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22200" indent="0" algn="ctr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22200" indent="0" algn="ctr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22200" indent="0" algn="ctr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22200" indent="0" algn="ctr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93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0" y="1500120"/>
            <a:ext cx="9144000" cy="467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7" name="Picture 4" descr=""/>
          <p:cNvPicPr/>
          <p:nvPr/>
        </p:nvPicPr>
        <p:blipFill>
          <a:blip r:embed="rId1"/>
          <a:stretch/>
        </p:blipFill>
        <p:spPr>
          <a:xfrm>
            <a:off x="214200" y="214200"/>
            <a:ext cx="8715600" cy="63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 rot="10800000">
            <a:off x="395280" y="571320"/>
            <a:ext cx="7416720" cy="48960"/>
          </a:xfrm>
          <a:prstGeom prst="rect">
            <a:avLst/>
          </a:prstGeom>
          <a:noFill/>
          <a:ln w="0">
            <a:noFill/>
          </a:ln>
        </p:spPr>
        <p:txBody>
          <a:bodyPr tIns="3240" bIns="324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ecff"/>
                </a:solidFill>
                <a:latin typeface="Arial Black"/>
              </a:rPr>
              <a:t> </a:t>
            </a:r>
            <a:endParaRPr b="0" lang="en-US" sz="1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285840"/>
            <a:ext cx="8229600" cy="584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1d8ff"/>
                </a:solidFill>
                <a:latin typeface="Verdana"/>
              </a:rPr>
              <a:t>КОЧЕТОВ Эрнест Георгиевич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–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зидент Общественной академии наук геоэкономики и глобалистики, доктор экономических наук, академик РАЕ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93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0" y="500040"/>
            <a:ext cx="9144000" cy="567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i="1" lang="ru-RU" sz="2800" spc="-1" strike="noStrike">
                <a:solidFill>
                  <a:srgbClr val="ffffff"/>
                </a:solidFill>
                <a:latin typeface="Verdana"/>
              </a:rPr>
              <a:t>Кочетов Э.Г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i="1" lang="ru-RU" sz="2800" spc="-1" strike="noStrike">
                <a:solidFill>
                  <a:srgbClr val="b1d8ff"/>
                </a:solidFill>
                <a:latin typeface="Verdana"/>
              </a:rPr>
              <a:t>Диалог: Диалогистика как наука о судьбах человека и мира в контексте глобальных перемен</a:t>
            </a:r>
            <a:r>
              <a:rPr b="0" lang="ru-RU" sz="2800" spc="-1" strike="noStrike">
                <a:solidFill>
                  <a:srgbClr val="b1d8ff"/>
                </a:solidFill>
                <a:latin typeface="Verdana"/>
              </a:rPr>
              <a:t>: 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Научная монография / Обществ. ак. наук геоэкономики и глобалистики.  – Москва:  Экономика, 2011. - 733 С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rnest Kochetov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. </a:t>
            </a:r>
            <a:r>
              <a:rPr b="1" i="1" lang="en-US" sz="2800" spc="-1" strike="noStrike">
                <a:solidFill>
                  <a:srgbClr val="b1d8ff"/>
                </a:solidFill>
                <a:latin typeface="Verdana"/>
              </a:rPr>
              <a:t>DIALOGUES: Dialogistics as a science of the destiny of the mankind and the world in the context of the global changes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: Scientific monograph / Ernest Kochetov. — Moscow: Ekonomika, 2011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93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0" y="142920"/>
            <a:ext cx="9144000" cy="603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Презентация книги прошла на XXIV 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i="1" lang="ru-RU" sz="2400" spc="-1" strike="noStrike">
                <a:solidFill>
                  <a:srgbClr val="ffffff"/>
                </a:solidFill>
                <a:latin typeface="Verdana"/>
              </a:rPr>
              <a:t>Московской международной книжной выставке-ярмарке 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 (10 сентября 2011 г.) и на IX сессии Мирового общественного форума </a:t>
            </a:r>
            <a:r>
              <a:rPr b="0" i="1" lang="ru-RU" sz="2400" spc="-1" strike="noStrike">
                <a:solidFill>
                  <a:srgbClr val="ffffff"/>
                </a:solidFill>
                <a:latin typeface="Verdana"/>
              </a:rPr>
              <a:t>«Диалог цивилизаций» 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(о. Родос, Греция, 6-10 октября 2011 г.) 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Книга представлена в Интернете для свободного и бесплатного скачивания пользователями в научных и учебных целях. С  полным текстом книги читатели могут ознакомиться на сайте  </a:t>
            </a:r>
            <a:r>
              <a:rPr b="0" i="1" lang="ru-RU" sz="2400" spc="-1" strike="noStrike">
                <a:solidFill>
                  <a:srgbClr val="ffffff"/>
                </a:solidFill>
                <a:latin typeface="Verdana"/>
              </a:rPr>
              <a:t>Общественной академии наук геоэкономики и глобалистики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(см.: 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Verdana"/>
              </a:rPr>
              <a:t>http://www.geoeconomics-academy.ru/Books/Kochetov/Kochetov_Dialog.pdf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); на Информационно-аналитическом портале Vip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e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rson.ru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1d8ff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 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Verdana"/>
              </a:rPr>
              <a:t>http://kochetov.viperson.ru/wind.php?ID=641398&amp;soch=1?77933340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93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0" y="142920"/>
            <a:ext cx="9144000" cy="603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9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719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Verdana"/>
              </a:rPr>
              <a:t>Книга адресована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первопроходцам в сферу новейшего знания об окружающем нас мире, смело поднимающим вопросы высочайшего ранга, представителям научных, деловых и политических и общественных кругов, религиозным конфессиям и структурам, формирующим  ключевые «повестки дня» глобального диалога о судьбе мира, стратегию развития России, ее взаимодействие с  «новым» Миром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719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 rot="10800000">
            <a:off x="395280" y="571320"/>
            <a:ext cx="7416720" cy="48960"/>
          </a:xfrm>
          <a:prstGeom prst="rect">
            <a:avLst/>
          </a:prstGeom>
          <a:noFill/>
          <a:ln w="0">
            <a:noFill/>
          </a:ln>
        </p:spPr>
        <p:txBody>
          <a:bodyPr tIns="3240" bIns="324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ecff"/>
                </a:solidFill>
                <a:latin typeface="Arial Black"/>
              </a:rPr>
              <a:t> </a:t>
            </a:r>
            <a:endParaRPr b="0" lang="en-US" sz="1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85840" y="285840"/>
            <a:ext cx="8400960" cy="584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 </a:t>
            </a: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Проблема «субъекта перемен»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Кто возьмет на себя главенствующую роль – роль «мотора» мировых преобразований: «Мировая система», «Мировое сообщество», «Человек»?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Ответ на этот вопрос в ясной и четкой форме дают «Новые люди»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Новые люди (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e New People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) — люди со спокойным взглядом на вещи, способные к интеллектуальному их «ощупыванию», а значит, близкие к их сущностям; люди, вооруженные новым, объемно-сетевым методом познания мира, созревшие и подготовленные для того, чтобы сорганизовать и обустроить наш мир — мироздание нового Ренессанса, тем самым обеспечить бытие, достойное своей силы, красоты, жизнелюбия и интеллекта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2640" indent="0" algn="ctr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2640" indent="0" algn="ctr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2640" indent="0" algn="ctr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2640" indent="0" algn="ctr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2640" indent="0" algn="ctr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2640" indent="0" algn="ctr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 rot="10800000">
            <a:off x="395280" y="571320"/>
            <a:ext cx="7416720" cy="48960"/>
          </a:xfrm>
          <a:prstGeom prst="rect">
            <a:avLst/>
          </a:prstGeom>
          <a:noFill/>
          <a:ln w="0">
            <a:noFill/>
          </a:ln>
        </p:spPr>
        <p:txBody>
          <a:bodyPr tIns="3240" bIns="324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ecff"/>
                </a:solidFill>
                <a:latin typeface="Arial Black"/>
              </a:rPr>
              <a:t> </a:t>
            </a:r>
            <a:endParaRPr b="0" lang="en-US" sz="1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85840" y="285840"/>
            <a:ext cx="8400960" cy="584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 </a:t>
            </a: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2500" spc="-1" strike="noStrike">
                <a:solidFill>
                  <a:srgbClr val="ffffff"/>
                </a:solidFill>
                <a:latin typeface="Verdana"/>
              </a:rPr>
              <a:t>«Новые люди» провозглашают высшей ценностью «Человека», его жизнь и свободу. Именно «Человек» выступает субъектом истории, активным субъектом больших дел и великих поступков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Verdana"/>
              </a:rPr>
              <a:t>Выход на мировую арену «Новых людей» которые уже формирует эскиз нового Мироздания, они освещают дорогу к нему и предъявляют миру этот эскиз с высоких интеллектуальных площадок. Среди них – высокие родосские парадигмальные установки, озвученные на Мировых общественных форумах «Диалог цивилизаций», постановки на Бакинском Международном гуманитарном форуме и др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 rot="10800000">
            <a:off x="395280" y="571320"/>
            <a:ext cx="7416720" cy="48960"/>
          </a:xfrm>
          <a:prstGeom prst="rect">
            <a:avLst/>
          </a:prstGeom>
          <a:noFill/>
          <a:ln w="0">
            <a:noFill/>
          </a:ln>
        </p:spPr>
        <p:txBody>
          <a:bodyPr tIns="3240" bIns="324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ecff"/>
                </a:solidFill>
                <a:latin typeface="Arial Black"/>
              </a:rPr>
              <a:t> </a:t>
            </a:r>
            <a:endParaRPr b="0" lang="en-US" sz="1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85840" y="285840"/>
            <a:ext cx="8400960" cy="584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 </a:t>
            </a: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2700" spc="-1" strike="noStrike">
                <a:solidFill>
                  <a:srgbClr val="ffffff"/>
                </a:solidFill>
                <a:latin typeface="Verdana"/>
              </a:rPr>
              <a:t>Итак, завершая презентацию, подчеркнем:</a:t>
            </a:r>
            <a:endParaRPr b="0" lang="en-US" sz="27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Verdana"/>
              </a:rPr>
              <a:t>Проблема миропонимания – мир переживает ряд моментов:</a:t>
            </a:r>
            <a:endParaRPr b="0" lang="en-US" sz="27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Verdana"/>
              </a:rPr>
              <a:t>Современный мир входит в новый этап своего развития, при этом ярко демонстрируя дуальность фазового перехода.</a:t>
            </a:r>
            <a:endParaRPr b="0" lang="en-US" sz="27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Verdana"/>
              </a:rPr>
              <a:t>1) </a:t>
            </a:r>
            <a:r>
              <a:rPr b="0" i="1" lang="ru-RU" sz="2700" spc="-1" strike="noStrike">
                <a:solidFill>
                  <a:srgbClr val="ffffff"/>
                </a:solidFill>
                <a:latin typeface="Verdana"/>
              </a:rPr>
              <a:t>Глобализация и наука о ней - глобалистика, выполнив свою миссию, передают эстафету новой фазе мирового развития – космологизации   и ее научному обоснованию - гуманитарной космологии. Оформление этих процессов идет через диалог – он дает ключ к миропониманию!</a:t>
            </a:r>
            <a:endParaRPr b="0" lang="en-US" sz="27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 rot="10800000">
            <a:off x="395280" y="571320"/>
            <a:ext cx="7416720" cy="48960"/>
          </a:xfrm>
          <a:prstGeom prst="rect">
            <a:avLst/>
          </a:prstGeom>
          <a:noFill/>
          <a:ln w="0">
            <a:noFill/>
          </a:ln>
        </p:spPr>
        <p:txBody>
          <a:bodyPr tIns="3240" bIns="324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ecff"/>
                </a:solidFill>
                <a:latin typeface="Arial Black"/>
              </a:rPr>
              <a:t> </a:t>
            </a:r>
            <a:endParaRPr b="0" lang="en-US" sz="1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85840" y="285840"/>
            <a:ext cx="8400960" cy="584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 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2) Интеллектуальная мысль выдвинула парадигмальную связку </a:t>
            </a:r>
            <a:r>
              <a:rPr b="1" i="1" lang="ru-RU" sz="2800" spc="-1" strike="noStrike">
                <a:solidFill>
                  <a:srgbClr val="ffffff"/>
                </a:solidFill>
                <a:latin typeface="Verdana"/>
              </a:rPr>
              <a:t>«геоэкономический подход – глобалистика – гуманитарная космология»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и, тем самым, осветила в мире реальную  череду фазовых переходов: </a:t>
            </a:r>
            <a:r>
              <a:rPr b="1" i="1" lang="ru-RU" sz="2800" spc="-1" strike="noStrike">
                <a:solidFill>
                  <a:srgbClr val="ffffff"/>
                </a:solidFill>
                <a:latin typeface="Verdana"/>
              </a:rPr>
              <a:t>«геоэкономика → глобализация → космологизация»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, а в качестве действенного научного инструментария (рычага) по гармонизации нашего мира  -  </a:t>
            </a:r>
            <a:r>
              <a:rPr b="1" i="1" lang="ru-RU" sz="2800" spc="-1" strike="noStrike">
                <a:solidFill>
                  <a:srgbClr val="ffffff"/>
                </a:solidFill>
                <a:latin typeface="Verdana"/>
              </a:rPr>
              <a:t>концептуализацию глобальной теории диалога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 rot="10800000">
            <a:off x="395280" y="571320"/>
            <a:ext cx="7416720" cy="48960"/>
          </a:xfrm>
          <a:prstGeom prst="rect">
            <a:avLst/>
          </a:prstGeom>
          <a:noFill/>
          <a:ln w="0">
            <a:noFill/>
          </a:ln>
        </p:spPr>
        <p:txBody>
          <a:bodyPr tIns="3240" bIns="324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ecff"/>
                </a:solidFill>
                <a:latin typeface="Arial Black"/>
              </a:rPr>
              <a:t> </a:t>
            </a:r>
            <a:endParaRPr b="0" lang="en-US" sz="1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85840" y="285840"/>
            <a:ext cx="8400960" cy="584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3)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 </a:t>
            </a:r>
            <a:r>
              <a:rPr b="0" i="1" lang="ru-RU" sz="2500" spc="-1" strike="noStrike">
                <a:solidFill>
                  <a:srgbClr val="ffffff"/>
                </a:solidFill>
                <a:latin typeface="Verdana"/>
              </a:rPr>
              <a:t>Гуманитарная космология  </a:t>
            </a:r>
            <a:r>
              <a:rPr b="0" lang="ru-RU" sz="2500" spc="-1" strike="noStrike">
                <a:solidFill>
                  <a:srgbClr val="ffffff"/>
                </a:solidFill>
                <a:latin typeface="Verdana"/>
              </a:rPr>
              <a:t>высвечивает прорыв в будущее как зарождение </a:t>
            </a:r>
            <a:r>
              <a:rPr b="0" i="1" lang="ru-RU" sz="2500" spc="-1" strike="noStrike">
                <a:solidFill>
                  <a:srgbClr val="ffffff"/>
                </a:solidFill>
                <a:latin typeface="Verdana"/>
              </a:rPr>
              <a:t>новой модели антропокосмоса  </a:t>
            </a:r>
            <a:r>
              <a:rPr b="0" lang="ru-RU" sz="2500" spc="-1" strike="noStrike">
                <a:solidFill>
                  <a:srgbClr val="ffffff"/>
                </a:solidFill>
                <a:latin typeface="Verdana"/>
              </a:rPr>
              <a:t>-  Мироздания нового Ренессанса. И мы свидетели выхода на  мировую арену «Новых людей» с новыми идеями.  В них </a:t>
            </a:r>
            <a:r>
              <a:rPr b="0" i="1" lang="ru-RU" sz="2500" spc="-1" strike="noStrike">
                <a:solidFill>
                  <a:srgbClr val="ffffff"/>
                </a:solidFill>
                <a:latin typeface="Verdana"/>
              </a:rPr>
              <a:t>высшей ценностью провозглашается «Человек», его жизнь и свобода</a:t>
            </a:r>
            <a:r>
              <a:rPr b="0" lang="ru-RU" sz="2500" spc="-1" strike="noStrike">
                <a:solidFill>
                  <a:srgbClr val="ffffff"/>
                </a:solidFill>
                <a:latin typeface="Verdana"/>
              </a:rPr>
              <a:t>: Человек выступает как активный субъект истории, больших дел и поступков.  «Новые люди» подняли и предъявили человечеству новые </a:t>
            </a:r>
            <a:r>
              <a:rPr b="0" i="1" lang="ru-RU" sz="2500" spc="-1" strike="noStrike">
                <a:solidFill>
                  <a:srgbClr val="ffffff"/>
                </a:solidFill>
                <a:latin typeface="Verdana"/>
              </a:rPr>
              <a:t>лозунги и эскизы антропокосмоса</a:t>
            </a:r>
            <a:r>
              <a:rPr b="0" lang="ru-RU" sz="2500" spc="-1" strike="noStrike">
                <a:solidFill>
                  <a:srgbClr val="ffffff"/>
                </a:solidFill>
                <a:latin typeface="Verdana"/>
              </a:rPr>
              <a:t>, высокие гуманитарные технологии мирового преобразования. </a:t>
            </a:r>
            <a:r>
              <a:rPr b="0" i="1" lang="ru-RU" sz="2500" spc="-1" strike="noStrike">
                <a:solidFill>
                  <a:srgbClr val="ffffff"/>
                </a:solidFill>
                <a:latin typeface="Verdana"/>
              </a:rPr>
              <a:t>Они уже вступили на дорогу, ведущую к новому Мирозданию – Мирозданию нового Ренессанса. 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26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285840"/>
            <a:ext cx="8186760" cy="65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Verdana"/>
              </a:rPr>
              <a:t>Благодарю за внимание!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 rot="10800000">
            <a:off x="395280" y="571320"/>
            <a:ext cx="7416720" cy="48960"/>
          </a:xfrm>
          <a:prstGeom prst="rect">
            <a:avLst/>
          </a:prstGeom>
          <a:noFill/>
          <a:ln w="0">
            <a:noFill/>
          </a:ln>
        </p:spPr>
        <p:txBody>
          <a:bodyPr tIns="3240" bIns="324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ecff"/>
                </a:solidFill>
                <a:latin typeface="Arial Black"/>
              </a:rPr>
              <a:t> </a:t>
            </a:r>
            <a:endParaRPr b="0" lang="en-US" sz="1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285840"/>
            <a:ext cx="8229600" cy="584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 набрал критическую массу проблем. Центральная из них – проблема миропонимания. Все пришло в движение. Потеряна логика мирового развития. Опрокидываются традиционные представления о мире. Проснулась жажда нового знания о мире и его трендах, тяга к поиску новых смыслов, к новым мотивациям, стимулам, к новым ценностям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 rot="10800000">
            <a:off x="395280" y="571320"/>
            <a:ext cx="7416720" cy="48960"/>
          </a:xfrm>
          <a:prstGeom prst="rect">
            <a:avLst/>
          </a:prstGeom>
          <a:noFill/>
          <a:ln w="0">
            <a:noFill/>
          </a:ln>
        </p:spPr>
        <p:txBody>
          <a:bodyPr tIns="3240" bIns="324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ecff"/>
                </a:solidFill>
                <a:latin typeface="Arial Black"/>
              </a:rPr>
              <a:t> </a:t>
            </a:r>
            <a:endParaRPr b="0" lang="en-US" sz="1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285840"/>
            <a:ext cx="8229600" cy="584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Для осознания этого потребовалась новая методологическая оптика, новая «высота» мирового обзора – высокая методологическая орбита. Фундаментальная наука откликнулась на это: зародились новейшие отрасли знания и научные категории: геогенезис, глобалистика, гуманитарная космология, диалогистика и др. Они осветили по-новому мировую панораму и новые горизонты развития. С особой силой заявили о себе две проблемы:  1) проблемы «фазовых переходов» и 2) проблема «субъекта перемен»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189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1896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18960" indent="0" algn="ctr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18960" indent="0" algn="ctr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18960" indent="0" algn="ctr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18960" indent="0" algn="ctr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18960" indent="0" algn="ctr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18960" indent="0" algn="ctr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18960" indent="0" algn="ctr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18960" indent="0" algn="ctr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18960" indent="0" algn="ctr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 rot="10800000">
            <a:off x="395280" y="571320"/>
            <a:ext cx="7416720" cy="48960"/>
          </a:xfrm>
          <a:prstGeom prst="rect">
            <a:avLst/>
          </a:prstGeom>
          <a:noFill/>
          <a:ln w="0">
            <a:noFill/>
          </a:ln>
        </p:spPr>
        <p:txBody>
          <a:bodyPr tIns="3240" bIns="324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ecff"/>
                </a:solidFill>
                <a:latin typeface="Arial Black"/>
              </a:rPr>
              <a:t> </a:t>
            </a:r>
            <a:endParaRPr b="0" lang="en-US" sz="1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85840" y="285840"/>
            <a:ext cx="8400960" cy="584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Центральный момент  – обозначились вступающие в силу мировые фазовые изменения и их логика, а именно: переход от глобализации и глобалистики к космологизации и гуманитарной космологии, а также контур научного - концептуального и методологического -обоснования этого процесса и ключ к его осознанию – диалогистика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 rot="10800000">
            <a:off x="395280" y="571320"/>
            <a:ext cx="7416720" cy="48960"/>
          </a:xfrm>
          <a:prstGeom prst="rect">
            <a:avLst/>
          </a:prstGeom>
          <a:noFill/>
          <a:ln w="0">
            <a:noFill/>
          </a:ln>
        </p:spPr>
        <p:txBody>
          <a:bodyPr tIns="3240" bIns="324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ecff"/>
                </a:solidFill>
                <a:latin typeface="Arial Black"/>
              </a:rPr>
              <a:t> </a:t>
            </a:r>
            <a:endParaRPr b="0" lang="en-US" sz="1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0" y="0"/>
            <a:ext cx="8686800" cy="613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 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Глобальные фазовые изменения  мира выступают как череда звеньев (парадигмальных сдвигов) подъема (восхождения) интеллектуальной мысли. Мир входит в процесс космологизации как новый этап мирового развития. Обратимся к  блок-схеме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Космологизация: общая картина миропонимания (процессы,  их научное (концептуальное и методологическое) обоснование и ключ к осознанию (в авторской разработке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142920" y="2857680"/>
          <a:ext cx="8929800" cy="3832200"/>
        </p:xfrm>
        <a:graphic>
          <a:graphicData uri="http://schemas.openxmlformats.org/drawingml/2006/table">
            <a:tbl>
              <a:tblPr/>
              <a:tblGrid>
                <a:gridCol w="1428840"/>
                <a:gridCol w="2286000"/>
                <a:gridCol w="2336760"/>
                <a:gridCol w="2878200"/>
              </a:tblGrid>
              <a:tr h="1371960"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Этапы миро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понима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Динамик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процесс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Процесс развит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(фазы, этапы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Научные парадигмы (инструментарий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Ключ к миропониманию (осознанию мира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51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III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Calibri"/>
                        </a:rPr>
                        <a:t>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Calibri"/>
                        </a:rPr>
                        <a:t>Космологизац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bf8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Гуманитарная космология***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Диалог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диалогистика как наука о судьбах человека и мира в контексте глобальных перемен****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9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II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↑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Глобали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зация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**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↑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Глобалистика**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5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I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↑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Геоэкономика*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↑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Геоэкономический подход*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 rot="10800000">
            <a:off x="395280" y="571320"/>
            <a:ext cx="7416720" cy="48960"/>
          </a:xfrm>
          <a:prstGeom prst="rect">
            <a:avLst/>
          </a:prstGeom>
          <a:noFill/>
          <a:ln w="0">
            <a:noFill/>
          </a:ln>
        </p:spPr>
        <p:txBody>
          <a:bodyPr tIns="3240" bIns="324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ecff"/>
                </a:solidFill>
                <a:latin typeface="Arial Black"/>
              </a:rPr>
              <a:t> </a:t>
            </a:r>
            <a:endParaRPr b="0" lang="en-US" sz="1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85840" y="285840"/>
            <a:ext cx="8400960" cy="584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имволом «↑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»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обозначены «фазовые переходы» в онтологической связке-триаде «геоэкономика → глобализация → космологизация» и в гносеологической связке-триаде «геоэкономический подход  → глобалистика → гуманитарная космология» </a:t>
            </a:r>
            <a:r>
              <a:rPr b="0" lang="ru-RU" sz="2800" spc="-1" strike="noStrike" baseline="30000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вертикальные срезы мировой динамики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);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,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I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,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II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– горизонты мирового развития и их онтологическая и гносеологическая составляющая (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горизонтальные срезы мировой динамики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)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 rot="10800000">
            <a:off x="395280" y="571320"/>
            <a:ext cx="7416720" cy="48960"/>
          </a:xfrm>
          <a:prstGeom prst="rect">
            <a:avLst/>
          </a:prstGeom>
          <a:noFill/>
          <a:ln w="0">
            <a:noFill/>
          </a:ln>
        </p:spPr>
        <p:txBody>
          <a:bodyPr tIns="3240" bIns="324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ecff"/>
                </a:solidFill>
                <a:latin typeface="Arial Black"/>
              </a:rPr>
              <a:t> </a:t>
            </a:r>
            <a:endParaRPr b="0" lang="en-US" sz="1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85840" y="285840"/>
            <a:ext cx="8400960" cy="584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 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Символами *, **, ***, **** обозначены </a:t>
            </a: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авторские разработки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соответствующих фаз (этапов) и научной парадигмы (инструментария) для их осознания и постижения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*</a:t>
            </a: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 - 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Геоэкономика. Освоение мирового экономического пространства: Учебник. — М.: Норма, 2010. — 528 с.; Геоэкономика и конкурентоспособность России: Научно-концептуальные основы геоэкономической политики России»: Научно-аналитический доклад / М.Ю. Байдаков, Н.Ю. Конина, Э.Г. Кочетов, Е.В. Сапир, В.Л. Сельцовский, Н.С. Столярова, Е.Д. Фролова; Под научной ред. Э.Г. Кочетова; Обществ. акад. наук геоэкономики и глобалистики. М.: Книга и бизнес, 2010. - 388 с.;</a:t>
            </a: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Геоэкономический (глобальный) толковый словарь (Основы высоких геоэкономических технологий современного бизнеса): Сборник стратегических понятий-новелл. – Екатеринбург: ОАО «ИПП Уральский рабочий»,  2006. – 504 с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 rot="10800000">
            <a:off x="395280" y="571320"/>
            <a:ext cx="7416720" cy="48960"/>
          </a:xfrm>
          <a:prstGeom prst="rect">
            <a:avLst/>
          </a:prstGeom>
          <a:noFill/>
          <a:ln w="0">
            <a:noFill/>
          </a:ln>
        </p:spPr>
        <p:txBody>
          <a:bodyPr tIns="3240" bIns="324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ecff"/>
                </a:solidFill>
                <a:latin typeface="Arial Black"/>
              </a:rPr>
              <a:t> </a:t>
            </a:r>
            <a:endParaRPr b="0" lang="en-US" sz="1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85840" y="285840"/>
            <a:ext cx="8400960" cy="584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 </a:t>
            </a:r>
            <a:r>
              <a:rPr b="0" lang="ru-RU" sz="2300" spc="-1" strike="noStrike">
                <a:solidFill>
                  <a:srgbClr val="ffffff"/>
                </a:solidFill>
                <a:latin typeface="Verdana"/>
              </a:rPr>
              <a:t>**</a:t>
            </a:r>
            <a:r>
              <a:rPr b="1" lang="ru-RU" sz="2300" spc="-1" strike="noStrike">
                <a:solidFill>
                  <a:srgbClr val="ffffff"/>
                </a:solidFill>
                <a:latin typeface="Verdana"/>
              </a:rPr>
              <a:t> - </a:t>
            </a:r>
            <a:r>
              <a:rPr b="0" lang="ru-RU" sz="2300" spc="-1" strike="noStrike">
                <a:solidFill>
                  <a:srgbClr val="ffffff"/>
                </a:solidFill>
                <a:latin typeface="Verdana"/>
              </a:rPr>
              <a:t>Глобалистика: Теория, методология, практика: Учебник для вузов. – М.: Издательство НОРМА (Издательская группа НОРМА–ИНФРА • М), 2002. – 672 с.; Глобалистика как геоэкономика, как реальность, как мироздание: Новый ренессанс – истоки и принципы его построения, фундаментальные опоры, теоретический и методологический каркас. М.: ОАО Издательская группа «ПРОГРЕСС», 2001. - 704 с.</a:t>
            </a:r>
            <a:endParaRPr b="0" lang="en-US" sz="23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Verdana"/>
              </a:rPr>
              <a:t>*** - Гуманитарная космология (дорога к новому мирозданию новых людей). Научная монография. — М.: Деловая литература, 2006. – 160 с.</a:t>
            </a:r>
            <a:endParaRPr b="0" lang="en-US" sz="23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Verdana"/>
              </a:rPr>
              <a:t>**** - </a:t>
            </a:r>
            <a:r>
              <a:rPr b="0" i="1" lang="ru-RU" sz="2300" spc="-1" strike="noStrike">
                <a:solidFill>
                  <a:srgbClr val="ffffff"/>
                </a:solidFill>
                <a:latin typeface="Verdana"/>
              </a:rPr>
              <a:t>Диалог:</a:t>
            </a:r>
            <a:r>
              <a:rPr b="1" i="1" lang="ru-RU" sz="23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i="1" lang="ru-RU" sz="2300" spc="-1" strike="noStrike">
                <a:solidFill>
                  <a:srgbClr val="ffffff"/>
                </a:solidFill>
                <a:latin typeface="Verdana"/>
              </a:rPr>
              <a:t>Диалогистика как наука о судьбах человека и   мира в контексте глобальных перемен</a:t>
            </a:r>
            <a:r>
              <a:rPr b="0" lang="ru-RU" sz="2300" spc="-1" strike="noStrike">
                <a:solidFill>
                  <a:srgbClr val="ffffff"/>
                </a:solidFill>
                <a:latin typeface="Verdana"/>
              </a:rPr>
              <a:t>: Научная монография / Обществ. ак. наук геоэкономики и глобалистики. – Москва: Экономика, 2011. - 733 С. </a:t>
            </a:r>
            <a:endParaRPr b="0" lang="en-US" sz="23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9T13:13:32Z</dcterms:created>
  <dc:creator>Ольга</dc:creator>
  <dc:description/>
  <dc:language>en-US</dc:language>
  <cp:lastModifiedBy>Эрнест Кочтов</cp:lastModifiedBy>
  <dcterms:modified xsi:type="dcterms:W3CDTF">2013-04-27T07:11:21Z</dcterms:modified>
  <cp:revision>139</cp:revision>
  <dc:subject/>
  <dc:title>Слайд 1</dc:title>
</cp:coreProperties>
</file>